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E62-8065-4E7A-ADB2-3008953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026-8B2C-4775-8EAB-99E4AD7B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28D-0A0E-4701-97F8-1AA2B587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8D6-6F9A-4ABB-9AD9-A7C60A5E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BDE-2AAA-4BE9-8189-C610C54C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01AD-2DF7-4DC1-96FB-BFB3048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00E-6AE6-48A5-A894-1E1CBF6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3490-B842-4CF8-AA47-0B8B6EBC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516A-8570-45B2-98B0-323EE0A0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DC6C-A46F-4A93-849B-BE81AB8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1D0-23CC-460C-8348-9D498F7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251-6F98-40B6-B640-1EF9828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F47-0380-462B-A682-F34141C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3BB6-AD78-43D4-8BC6-E8C3B38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56F0-1835-4A60-9F0A-8AC2FA2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7649-FDEA-48B3-9D56-8B697DE4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4480-11FD-4D58-9CF7-5E938C6E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889-23FF-46AE-A60A-D149347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DE7-0C8D-4DDB-9351-227AB41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667-807B-4BF7-894D-E306A7E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C3E-E768-4C36-B02C-437EE1E1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8A4-95CC-46C6-B933-B6F9F1C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898-4283-411D-B4F8-2AB6887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375-EFB1-4696-95C2-35317C2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BD0-F9A2-47B1-9EB5-916B4E793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8C8-0F81-4DDF-AD41-C414FD5CC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hapter 7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Vinegar and Baking Soda Reaction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ic Acid +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dium Acetate + Water + Carbon Di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Formul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negar and Baking sod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OH + Na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ONa +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0 +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y use formula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how long the equation was when we used the words for the vinegar and baking sod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look how short the formula version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ubscrip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little numbers that are below th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number written, then there are exactly that many number of that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number is written, then there is one atom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NOT CHANGE A SUBSCRIPT!!! NEVER!!!! EVER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Law of Conservation of Mas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Antoine Lavoisi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howed that chemical equations are much like mathematic equations…there must be a balance on both s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take a look at the vinegar and baking soda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a list of atom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he number of each atom on each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ven, then the equation is “balance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, then there must be some changes m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SCRIPTS!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EFFICIENTS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a Superscrip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lver + Hydrogen Sulfid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lver Chloride +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equation balan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we do to fix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Ag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alance These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+ 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Cl +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Br +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Cl + 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am Balancing Activi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ALL of the given equations using the material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write on the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only change the COEFFIC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me to check each equation before moving on to the next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mportant Vocabul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rmic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thermic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ory Lab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upplies provided to make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: What indicates that a chemical reaction has occur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: If you combine the provided supplies, then a chemical reaction occurs, becau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: Sugar, spoon, candle, matches, hydrogen peroxide, yeast, test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hysical or Chemical Change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s affect only physical properties such as shape, size or state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s produce new substances with properties different from any compone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cess that produces a chemical change is called a chemical re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sualizing Chemical 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age 1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the pictures and read the captions on your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se two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does temperature affect the speed of the chemical reaction that causes milk to sou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some other examples of chemical changes that you can detect by using your senses? Name one reaction for each of your sen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emical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bstances that you start with and react with one another are called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bstances that are produced after the reaction are call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mix baking soda and vinegar, you get a vigorous bubbling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the reactants in this rea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the produc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emical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shorthand way of describing a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uations use chemical symbols, formulas, and simple math to explain chemic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tell chemists and you the reactants, products, physical state, and the proportions of each substanc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will see the importance of this really soon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Words to Describe 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able 1 on Page 1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hows you a very simple look at chemical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some of the reactions we have performed so f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t’s write them in word 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Chemical Na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household items have common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king So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names are not typically used in chemical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dium Bicarbon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etic Ac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3:11:19Z</dcterms:created>
  <dc:creator>Adam's Homepage</dc:creator>
  <dc:description/>
  <dc:language>en-US</dc:language>
  <cp:lastModifiedBy>Adam's Homepage</cp:lastModifiedBy>
  <dcterms:modified xsi:type="dcterms:W3CDTF">2008-11-13T17:01:10Z</dcterms:modified>
  <cp:revision>3</cp:revision>
  <dc:subject/>
  <dc:title>Chapter 7</dc:title>
</cp:coreProperties>
</file>